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BCF-84F6-44F4-A645-29E7E1E9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AE2-4C97-428B-A78E-3ED24A6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700-CEC0-4414-A05B-5B9C3FCC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73D-4E10-499A-AEAB-19FA59AF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3FB-8098-454F-AD4F-ECA08646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5A1-F0DF-4932-810F-08705070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B84-0B2E-4702-8319-D25D7CC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258-EB1A-4341-8C96-E1D5E02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3E9-F3C9-4C4C-962C-DA03F18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ACA-B0C9-4985-942C-38AC0EF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931-2644-469C-A5E4-89577990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AEC4-E4D4-4A20-9388-E36091BB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BA65-5DE1-4FA6-BC6D-3013C3BC6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00200" y="2819520"/>
            <a:ext cx="6819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ỰC HÀNH: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AN SÁT VÀ PHÂN BIỆT MỘT SỐ NHÓM THỰC VẬT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905120" y="17524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̀I 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bloem20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315200" y="5638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loem03"/>
          <p:cNvPicPr/>
          <p:nvPr/>
        </p:nvPicPr>
        <p:blipFill>
          <a:blip r:embed="rId3"/>
          <a:stretch/>
        </p:blipFill>
        <p:spPr>
          <a:xfrm>
            <a:off x="5977080" y="5637240"/>
            <a:ext cx="16002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0" y="1528920"/>
          <a:ext cx="9144000" cy="5221080"/>
        </p:xfrm>
        <a:graphic>
          <a:graphicData uri="http://schemas.openxmlformats.org/drawingml/2006/table">
            <a:tbl>
              <a:tblPr/>
              <a:tblGrid>
                <a:gridCol w="2492280"/>
                <a:gridCol w="2635200"/>
                <a:gridCol w="4016520"/>
              </a:tblGrid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ân không phân nhánh, rễ giả, chưa có mạch dẫ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dưo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Đã có rễ, thân lá thật, có mạch dẫn, lá non cuộn lại ở đầ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2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hạt trầ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ó rễ, thân, lá. Thân phân nhánh, lá kim. Hạt nằm lộ phía bên ngoà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ành hạt kí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ó rễ, thân, lá đầy đủ, cơ quan sinh sản là hoa, hạt nằm trong quả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"/>
          <p:cNvSpPr/>
          <p:nvPr/>
        </p:nvSpPr>
        <p:spPr>
          <a:xfrm>
            <a:off x="838080" y="287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2. Nêu dấu hiệu nhận biết một số đại diện ngành thực vật thông qua đặc điểm hình thá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371600" y="762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ƯỚNG DẪN VIẾT BÁO CÁO THỰC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1523880" y="17524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ÁCH TIẾN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 HO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600200" y="3276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êu cầu: Mỗi hs hoàn thành ra giấy kiểm 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54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00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914400" y="1652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. Chuẩn b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6269040" y="4114800"/>
            <a:ext cx="276552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6332400" y="92160"/>
            <a:ext cx="2467080" cy="246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2965320" y="4629240"/>
            <a:ext cx="2846520" cy="178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"/>
          <p:cNvPicPr/>
          <p:nvPr/>
        </p:nvPicPr>
        <p:blipFill>
          <a:blip r:embed="rId5"/>
          <a:stretch/>
        </p:blipFill>
        <p:spPr>
          <a:xfrm>
            <a:off x="6346800" y="2482920"/>
            <a:ext cx="245268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"/>
          <p:cNvPicPr/>
          <p:nvPr/>
        </p:nvPicPr>
        <p:blipFill>
          <a:blip r:embed="rId6"/>
          <a:stretch/>
        </p:blipFill>
        <p:spPr>
          <a:xfrm>
            <a:off x="493560" y="4629240"/>
            <a:ext cx="1979640" cy="19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"/>
          <p:cNvPicPr/>
          <p:nvPr/>
        </p:nvPicPr>
        <p:blipFill>
          <a:blip r:embed="rId7"/>
          <a:stretch/>
        </p:blipFill>
        <p:spPr>
          <a:xfrm>
            <a:off x="468360" y="719280"/>
            <a:ext cx="1860480" cy="252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"/>
          <p:cNvPicPr/>
          <p:nvPr/>
        </p:nvPicPr>
        <p:blipFill>
          <a:blip r:embed="rId8"/>
          <a:stretch/>
        </p:blipFill>
        <p:spPr>
          <a:xfrm>
            <a:off x="534960" y="3327480"/>
            <a:ext cx="1895400" cy="12207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1"/>
          <p:cNvSpPr/>
          <p:nvPr/>
        </p:nvSpPr>
        <p:spPr>
          <a:xfrm>
            <a:off x="2759040" y="824040"/>
            <a:ext cx="22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Kính hiể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3022560" y="1228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Kính Lú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3271680" y="1654200"/>
            <a:ext cx="22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Ống nhỏ giọ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25"/>
          <p:cNvSpPr/>
          <p:nvPr/>
        </p:nvSpPr>
        <p:spPr>
          <a:xfrm>
            <a:off x="3524400" y="2116080"/>
            <a:ext cx="24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Kim mũi má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3821040" y="254808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Lam kí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3876840" y="3587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Dao 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3938760" y="3068640"/>
            <a:ext cx="16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La 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3852720" y="2174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ẫu v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1280" y="3459240"/>
            <a:ext cx="3402000" cy="297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3"/>
          <a:stretch/>
        </p:blipFill>
        <p:spPr>
          <a:xfrm>
            <a:off x="4781520" y="957240"/>
            <a:ext cx="4189320" cy="20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4781520" y="3444840"/>
            <a:ext cx="4094280" cy="29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5"/>
          <a:stretch/>
        </p:blipFill>
        <p:spPr>
          <a:xfrm>
            <a:off x="154080" y="701640"/>
            <a:ext cx="4189320" cy="2197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>
            <a:off x="806400" y="2967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rêu t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785880" y="642636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dương x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035760" y="30844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t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73680" y="648504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y bí đ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457200" y="388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. Cách tiến hàn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" y="9446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Quan sát đại diện thực vật không có m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2"/>
          <a:stretch/>
        </p:blipFill>
        <p:spPr>
          <a:xfrm>
            <a:off x="793800" y="1600200"/>
            <a:ext cx="6184800" cy="267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3"/>
          <a:stretch/>
        </p:blipFill>
        <p:spPr>
          <a:xfrm>
            <a:off x="3505320" y="1384200"/>
            <a:ext cx="5338800" cy="3497400"/>
          </a:xfrm>
          <a:prstGeom prst="rect">
            <a:avLst/>
          </a:prstGeom>
          <a:ln w="0">
            <a:noFill/>
          </a:ln>
        </p:spPr>
      </p:pic>
      <p:sp>
        <p:nvSpPr>
          <p:cNvPr id="76" name="Up Arrow Callout 15"/>
          <p:cNvSpPr/>
          <p:nvPr/>
        </p:nvSpPr>
        <p:spPr>
          <a:xfrm>
            <a:off x="380880" y="4276800"/>
            <a:ext cx="8610840" cy="2352600"/>
          </a:xfrm>
          <a:prstGeom prst="upArrowCallout">
            <a:avLst>
              <a:gd name="adj1" fmla="val -19901"/>
              <a:gd name="adj2" fmla="val 27027"/>
              <a:gd name="adj3" fmla="val 25000"/>
              <a:gd name="adj4" fmla="val 70041"/>
            </a:avLst>
          </a:prstGeom>
          <a:solidFill>
            <a:srgbClr val="92d05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Sử dụng kính lúp quan sát các cơ quan của cây rêu: rễ, thân, lá và vị trí bào t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Thực hành: cắt lát thân rêu, đặt lên lam kính, nhỏ một giọt nước cất lên mẫu vật, đặt lamen và qu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sá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480" y="3589200"/>
            <a:ext cx="7148520" cy="326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106668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Quan sát đại diện ngành dương x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eft Arrow Callout 7"/>
          <p:cNvSpPr/>
          <p:nvPr/>
        </p:nvSpPr>
        <p:spPr>
          <a:xfrm>
            <a:off x="5410080" y="1447920"/>
            <a:ext cx="3353040" cy="2590560"/>
          </a:xfrm>
          <a:prstGeom prst="leftArrowCallout">
            <a:avLst>
              <a:gd name="adj1" fmla="val 25002"/>
              <a:gd name="adj2" fmla="val 25000"/>
              <a:gd name="adj3" fmla="val 25006"/>
              <a:gd name="adj4" fmla="val 6498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Arial"/>
              </a:rPr>
              <a:t>Quan sát dương xỉ: tìm rễ, thân, lá, xác định vị trí bào t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3"/>
          <a:stretch/>
        </p:blipFill>
        <p:spPr>
          <a:xfrm>
            <a:off x="914400" y="919080"/>
            <a:ext cx="41148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819000" y="9684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 Quan sát đại diện ngành hạt tr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09600" y="928800"/>
            <a:ext cx="4967280" cy="2965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-304920" y="3914640"/>
            <a:ext cx="5581800" cy="2963880"/>
          </a:xfrm>
          <a:prstGeom prst="rect">
            <a:avLst/>
          </a:prstGeom>
          <a:ln w="0">
            <a:noFill/>
          </a:ln>
        </p:spPr>
      </p:pic>
      <p:sp>
        <p:nvSpPr>
          <p:cNvPr id="86" name="Left Arrow Callout 7"/>
          <p:cNvSpPr/>
          <p:nvPr/>
        </p:nvSpPr>
        <p:spPr>
          <a:xfrm>
            <a:off x="5276880" y="1590840"/>
            <a:ext cx="3867120" cy="4682880"/>
          </a:xfrm>
          <a:prstGeom prst="leftArrowCallout">
            <a:avLst>
              <a:gd name="adj1" fmla="val 25006"/>
              <a:gd name="adj2" fmla="val 24998"/>
              <a:gd name="adj3" fmla="val 25000"/>
              <a:gd name="adj4" fmla="val 64983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Quan sát rễ, thân, lá (dạng thân, dạng lá, kích thướ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</a:rPr>
              <a:t>- Xác định cấu tạo và vị trí nón đực, nón cái, quan sát vị trí của hạt thô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4394160" cy="4394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844560" y="15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 Quan sát địa diện ngành hạt k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Cloud Callout 7"/>
          <p:cNvSpPr/>
          <p:nvPr/>
        </p:nvSpPr>
        <p:spPr>
          <a:xfrm>
            <a:off x="5079960" y="385920"/>
            <a:ext cx="3987720" cy="4394160"/>
          </a:xfrm>
          <a:prstGeom prst="cloudCallout">
            <a:avLst>
              <a:gd name="adj1" fmla="val -58773"/>
              <a:gd name="adj2" fmla="val 40555"/>
            </a:avLst>
          </a:prstGeom>
          <a:solidFill>
            <a:srgbClr val="838a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dạng thân, rễ, l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Quan sát hoa b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ffffff"/>
                </a:solidFill>
                <a:latin typeface="Arial"/>
              </a:rPr>
              <a:t>- Xác định vị trí của hạt bên trong hay bên ngoài quả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723960" y="29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I. Thu hoạ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627120" y="9144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</a:rPr>
              <a:t>1. Sắp xếp các mẫu vật đã quan sát vào vị trí phân loại thực vật cho phù hợp và giải thí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2276640"/>
          <a:ext cx="8186760" cy="306360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3614760"/>
              </a:tblGrid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60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58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-34920" y="1611360"/>
          <a:ext cx="9144000" cy="5057640"/>
        </p:xfrm>
        <a:graphic>
          <a:graphicData uri="http://schemas.openxmlformats.org/drawingml/2006/table">
            <a:tbl>
              <a:tblPr/>
              <a:tblGrid>
                <a:gridCol w="2492280"/>
                <a:gridCol w="2635200"/>
                <a:gridCol w="401652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câ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ên ngà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í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r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4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dương x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4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thô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4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ây bí đ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97" name="TextBox 4"/>
          <p:cNvSpPr/>
          <p:nvPr/>
        </p:nvSpPr>
        <p:spPr>
          <a:xfrm>
            <a:off x="723960" y="189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</a:rPr>
              <a:t>1. Sắp xếp các mẫu vật đã quan sát vào vị trí phân loại thực vật cho phù hợp và giải thí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-2514600" y="21337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2813040" y="25351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rê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452680" y="3719520"/>
            <a:ext cx="28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dương x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2521080" y="47242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hạt trầ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2664000" y="5824440"/>
            <a:ext cx="230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gành hạt kí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5187960" y="247644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Thân không phân nhánh, rễ giả, chưa có mạch d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5052960" y="3575160"/>
            <a:ext cx="41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ã có rễ, thân lá thật, có mạch dẫn, lá non cuộn lại ở đầ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099040" y="4541760"/>
            <a:ext cx="41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Có rễ, thân, lá. Thân phân nhánh, lá kim. Hạt nằm lộ phía bên ngoà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5111640" y="5657760"/>
            <a:ext cx="40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Có rễ, thân, lá đầy đủ, cơ quan sinh sản là hoa, hạt nằm trong quả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8T07:35:09Z</dcterms:created>
  <dc:creator>sdf</dc:creator>
  <dc:description/>
  <dc:language>en-US</dc:language>
  <cp:lastModifiedBy>Nguyễn Phượng</cp:lastModifiedBy>
  <dcterms:modified xsi:type="dcterms:W3CDTF">2021-06-07T10:28:05Z</dcterms:modified>
  <cp:revision>504</cp:revision>
  <dc:subject/>
  <dc:title>Slide 1</dc:title>
</cp:coreProperties>
</file>